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5320" y="690120"/>
            <a:ext cx="4611600" cy="34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4E9D91-C147-47CC-8E92-297E3ECB8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al annotation results for B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 of genome = 100(# basepairs/3,000,000,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known count scales up to 21,888 genes in the ge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eq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 66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- 5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 - 118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- 2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- 267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sembl found 960 pseudogenes in the entire genome: clearly too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otated 23,299 genes in the entire gen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60B6B80-8696-47F3-B8F4-E009D478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329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‘most exciting exon’ hierarchy in which extra &gt; skip &gt; alt &gt; run on.  Hence lower types on the table may be contained within higher types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frequencies, “pure cases” as % of type, and “pure cases” as % of total for each type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 sit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1229 full length variants aligned to their known counter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results are seen for all variants aligned to know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% of variants are full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5’ exons – 7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3’ exons – 3 % of all var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stop stat only applies to cases with inserted sequence (extra exon, alt sites which extend an exon, and run 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5320" y="69048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5' extension =  46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n 3' extension = 143 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2AA82F-FA28-4B19-B0BD-F382A04B2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T23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E25B73-7A36-4076-902D-1E6EDC4F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HsT34389|HsG15518|Novel_CDS|21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3048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2A2F1A-01C8-4DB7-8038-039E51C2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7595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3048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sG15104- GEMIN4 gene; several additional alternative splice forms; extra UTR and longer gen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63520" y="690480"/>
            <a:ext cx="4611960" cy="3459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46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includ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s, GenBank, GenPept, MGC, Ref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A computes metrics but also flags certain genes for manual insp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 is in GenBank and the Vega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2F9-AD90-429B-ADFC-23E2B5C5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3D9-1960-4139-B9D5-62FA4921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714-62A4-42D9-8786-2BEE695E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183-42CF-4F0F-B861-A413C5D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70C449-6690-410A-8227-1E6048073D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AD4DD-5BCC-401C-98F1-CB6F0E5039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A06F-C941-435F-9859-0B888AC0DF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A401-1EDD-4936-A773-CF552855B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38FD8-B5DD-4023-AD4A-1BAB3B86AE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7AA1-ED4E-4E82-AC6F-FAD9C3FA59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576E0-C754-4C0E-9451-DFF77AEEE1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812-7D88-4AFD-A757-EA3EF3BD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B2724-4A21-48B7-B30A-18AD34AC12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2892B-3ACE-4049-8C74-625CED4C3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75624-1CB2-47FE-A827-5029AED00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D6566-9D23-40F6-95CD-F76443E37F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D4F9B-CD8E-4022-91A7-3F0B1AEF0F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8FA-F622-4AA8-AF2E-49D47777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40C-A4C7-4099-858D-72DAE935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39C-DE86-43D6-8B75-D3CDE5CA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60120"/>
            <a:ext cx="861048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0B3-2838-4C79-B36C-93684116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641-8FCB-45F3-A5CA-8675DC22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AB5-0E7F-4C44-9797-BADDB43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73AE-2BD1-4BEF-B49B-F3333247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嘀攀爀搀愀渀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9640" y="662904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AC87-B64C-4797-9A3C-1E8C03A5EF8E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79400" y="1947600"/>
            <a:ext cx="7678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嘀攀爀搀愀渀愀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嘀攀爀搀愀渀愀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228240" y="6629040"/>
            <a:ext cx="5715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7162560" y="6629040"/>
            <a:ext cx="19047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嘀攀爀搀愀渀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FB54-92C0-4136-BBFC-CB1E5510FFAC}" type="slidenum">
              <a:rPr b="0" lang="en-US" sz="1400" spc="-1" strike="noStrike">
                <a:solidFill>
                  <a:srgbClr val="000000"/>
                </a:solidFill>
                <a:latin typeface="嘀攀爀搀愀渀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017880"/>
            <a:ext cx="4572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nappa Kod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MOD 2004, Cambridge, 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4960" y="1116000"/>
            <a:ext cx="66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Manual Annotation of Human Geno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a0000"/>
                </a:solidFill>
                <a:latin typeface="Times New Roman"/>
              </a:rPr>
              <a:t>at Broad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al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41320"/>
            <a:ext cx="1346040" cy="873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5240" y="1222200"/>
            <a:ext cx="159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Hunter Gen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0960" y="16383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1193760"/>
            <a:ext cx="3495600" cy="4123440"/>
          </a:xfrm>
          <a:prstGeom prst="rect">
            <a:avLst/>
          </a:prstGeom>
          <a:solidFill>
            <a:srgbClr val="ff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ine Gene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n/In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 and 5’ U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ew 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y Tran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 Automated Ge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seudo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Curation Fla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Adjust 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olyA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1200" y="5748480"/>
            <a:ext cx="1295280" cy="576000"/>
          </a:xfrm>
          <a:prstGeom prst="can">
            <a:avLst>
              <a:gd name="adj" fmla="val 25000"/>
            </a:avLst>
          </a:prstGeom>
          <a:solidFill>
            <a:srgbClr val="1e5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78560" y="5959440"/>
            <a:ext cx="15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not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07240" y="5246640"/>
            <a:ext cx="15634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Features of Argo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1440" y="818640"/>
            <a:ext cx="823896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ttaching primary and supplemental evidence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luster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Filtering and customizing evidence list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Display poly A signals  and splice junc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Alerting discrepancies before updating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Highlighting parent and chil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eal-time interactive analysi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ORF selection option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Tabular dump of selected features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Roll back and save work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嘀攀爀搀愀渀愀"/>
              </a:rPr>
              <a:t>Customization of feature display</a:t>
            </a: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View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8600" y="744480"/>
            <a:ext cx="8610480" cy="5746680"/>
            <a:chOff x="228600" y="744480"/>
            <a:chExt cx="8610480" cy="5746680"/>
          </a:xfrm>
        </p:grpSpPr>
        <p:grpSp>
          <p:nvGrpSpPr>
            <p:cNvPr id="182" name=""/>
            <p:cNvGrpSpPr/>
            <p:nvPr/>
          </p:nvGrpSpPr>
          <p:grpSpPr>
            <a:xfrm>
              <a:off x="228600" y="744480"/>
              <a:ext cx="8610480" cy="5746680"/>
              <a:chOff x="228600" y="744480"/>
              <a:chExt cx="8610480" cy="5746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2"/>
              <a:srcRect l="2970" t="0" r="8907" b="26498"/>
              <a:stretch/>
            </p:blipFill>
            <p:spPr>
              <a:xfrm>
                <a:off x="228600" y="744480"/>
                <a:ext cx="8610480" cy="574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3"/>
              <a:srcRect l="3203" t="43752" r="54675" b="42024"/>
              <a:stretch/>
            </p:blipFill>
            <p:spPr>
              <a:xfrm>
                <a:off x="280800" y="5373720"/>
                <a:ext cx="4115520" cy="1112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5" name="" descr=""/>
            <p:cNvPicPr/>
            <p:nvPr/>
          </p:nvPicPr>
          <p:blipFill>
            <a:blip r:embed="rId4"/>
            <a:srcRect l="39872" t="27899" r="40117" b="54926"/>
            <a:stretch/>
          </p:blipFill>
          <p:spPr>
            <a:xfrm>
              <a:off x="6753240" y="1913040"/>
              <a:ext cx="2085840" cy="13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onfidence levels of our gene model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0200" y="1282680"/>
            <a:ext cx="8212320" cy="52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lassification of transcripts –Hawk standard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lvl="1" marL="727920" indent="-28008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Known, Novel_CDS, Novel, Putative, Pseudogene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Association of primary and supplemental evidence with annotated featur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Rank order in selection of supporting evidence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Curation flags  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-3358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嘀攀爀搀愀渀愀"/>
              </a:rPr>
              <a:t>Free text comments</a:t>
            </a: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Gene counts for Broad and Ensembl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1806480"/>
          <a:ext cx="9128160" cy="251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6480"/>
                    <a:ext cx="9128160" cy="25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嘀攀爀搀愀渀愀"/>
              </a:rPr>
              <a:t>Manually Annotated Gene Models vs. public Gene Model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1060560"/>
          <a:ext cx="853452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0560"/>
                    <a:ext cx="85345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8131320" y="1325520"/>
            <a:ext cx="141120" cy="1098720"/>
          </a:xfrm>
          <a:custGeom>
            <a:avLst/>
            <a:gdLst>
              <a:gd name="textAreaLeft" fmla="*/ 0 w 141120"/>
              <a:gd name="textAreaRight" fmla="*/ 50760 w 141120"/>
              <a:gd name="textAreaTop" fmla="*/ 28440 h 1098720"/>
              <a:gd name="textAreaBottom" fmla="*/ 1070280 h 109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05920" y="1650960"/>
            <a:ext cx="13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34480" y="3214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G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7040" y="361800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s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97440" y="3879720"/>
            <a:ext cx="77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2240" y="4037040"/>
            <a:ext cx="273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EMB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6019920"/>
            <a:ext cx="27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-w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79720" y="5813280"/>
            <a:ext cx="195480" cy="757440"/>
          </a:xfrm>
          <a:custGeom>
            <a:avLst/>
            <a:gdLst>
              <a:gd name="textAreaLeft" fmla="*/ 0 w 195480"/>
              <a:gd name="textAreaRight" fmla="*/ 70560 w 195480"/>
              <a:gd name="textAreaTop" fmla="*/ 19440 h 757440"/>
              <a:gd name="textAreaBottom" fmla="*/ 738000 h 7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37560" y="4781520"/>
            <a:ext cx="326880" cy="849240"/>
          </a:xfrm>
          <a:custGeom>
            <a:avLst/>
            <a:gdLst>
              <a:gd name="textAreaLeft" fmla="*/ 0 w 326880"/>
              <a:gd name="textAreaRight" fmla="*/ 118080 w 3268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137440" y="49766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4676760" y="2117880"/>
            <a:ext cx="3914640" cy="287280"/>
            <a:chOff x="4676760" y="2117880"/>
            <a:chExt cx="3914640" cy="287280"/>
          </a:xfrm>
        </p:grpSpPr>
        <p:sp>
          <p:nvSpPr>
            <p:cNvPr id="205" name=""/>
            <p:cNvSpPr/>
            <p:nvPr/>
          </p:nvSpPr>
          <p:spPr>
            <a:xfrm>
              <a:off x="4702320" y="2262240"/>
              <a:ext cx="388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76760" y="2119320"/>
              <a:ext cx="682560" cy="285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37440" y="2119320"/>
              <a:ext cx="68256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08840" y="2119320"/>
              <a:ext cx="682560" cy="285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94480" y="2117880"/>
              <a:ext cx="30924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ypes of splice vari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93760" y="1362240"/>
          <a:ext cx="4178160" cy="2993760"/>
        </p:xfrm>
        <a:graphic>
          <a:graphicData uri="http://schemas.openxmlformats.org/drawingml/2006/table">
            <a:tbl>
              <a:tblPr/>
              <a:tblGrid>
                <a:gridCol w="2070000"/>
                <a:gridCol w="21081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of vari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ex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sk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alt 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run 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4676760" y="1533600"/>
            <a:ext cx="3914280" cy="285480"/>
            <a:chOff x="4676760" y="1533600"/>
            <a:chExt cx="3914280" cy="285480"/>
          </a:xfrm>
        </p:grpSpPr>
        <p:sp>
          <p:nvSpPr>
            <p:cNvPr id="213" name=""/>
            <p:cNvSpPr/>
            <p:nvPr/>
          </p:nvSpPr>
          <p:spPr>
            <a:xfrm>
              <a:off x="4702320" y="1676520"/>
              <a:ext cx="38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76760" y="1533600"/>
              <a:ext cx="682560" cy="285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37440" y="1533600"/>
              <a:ext cx="682560" cy="28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8480" y="1533600"/>
              <a:ext cx="682560" cy="285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676760" y="3330720"/>
            <a:ext cx="3914280" cy="299520"/>
            <a:chOff x="4676760" y="3330720"/>
            <a:chExt cx="3914280" cy="299520"/>
          </a:xfrm>
        </p:grpSpPr>
        <p:sp>
          <p:nvSpPr>
            <p:cNvPr id="218" name=""/>
            <p:cNvSpPr/>
            <p:nvPr/>
          </p:nvSpPr>
          <p:spPr>
            <a:xfrm>
              <a:off x="4702320" y="348732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76760" y="3345120"/>
              <a:ext cx="682200" cy="2847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2240" y="3345120"/>
              <a:ext cx="347760" cy="2847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040" y="3330720"/>
              <a:ext cx="927000" cy="2995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676760" y="3938760"/>
            <a:ext cx="2601720" cy="285120"/>
            <a:chOff x="4676760" y="3938760"/>
            <a:chExt cx="2601720" cy="285120"/>
          </a:xfrm>
        </p:grpSpPr>
        <p:sp>
          <p:nvSpPr>
            <p:cNvPr id="223" name=""/>
            <p:cNvSpPr/>
            <p:nvPr/>
          </p:nvSpPr>
          <p:spPr>
            <a:xfrm>
              <a:off x="4702320" y="4081680"/>
              <a:ext cx="200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76760" y="3938760"/>
              <a:ext cx="682200" cy="285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38160" y="3938760"/>
              <a:ext cx="940320" cy="2851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26" name=""/>
          <p:cNvGraphicFramePr/>
          <p:nvPr/>
        </p:nvGraphicFramePr>
        <p:xfrm>
          <a:off x="2395440" y="5010120"/>
          <a:ext cx="4199040" cy="1035000"/>
        </p:xfrm>
        <a:graphic>
          <a:graphicData uri="http://schemas.openxmlformats.org/drawingml/2006/table">
            <a:tbl>
              <a:tblPr/>
              <a:tblGrid>
                <a:gridCol w="3125880"/>
                <a:gridCol w="1073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CDS al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8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new sto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嘀攀爀搀愀渀愀"/>
                        </a:rPr>
                        <a:t>48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7" name=""/>
          <p:cNvGrpSpPr/>
          <p:nvPr/>
        </p:nvGrpSpPr>
        <p:grpSpPr>
          <a:xfrm>
            <a:off x="4676760" y="2736720"/>
            <a:ext cx="3914280" cy="285480"/>
            <a:chOff x="4676760" y="2736720"/>
            <a:chExt cx="3914280" cy="285480"/>
          </a:xfrm>
        </p:grpSpPr>
        <p:sp>
          <p:nvSpPr>
            <p:cNvPr id="228" name=""/>
            <p:cNvSpPr/>
            <p:nvPr/>
          </p:nvSpPr>
          <p:spPr>
            <a:xfrm>
              <a:off x="4702320" y="2879280"/>
              <a:ext cx="3888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676760" y="2736720"/>
              <a:ext cx="682560" cy="285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8480" y="2736720"/>
              <a:ext cx="682560" cy="285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489240"/>
            <a:ext cx="8610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Our data extend most RefSeq/MGC transcript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87200" y="847800"/>
            <a:ext cx="8788680" cy="6010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869080" y="2809800"/>
            <a:ext cx="2458800" cy="14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% positive for 5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 % positive for 3' 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% positive for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 % positive for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5' extension =  4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3' extension = 143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嘀攀爀搀愀渀愀"/>
              </a:rPr>
              <a:t>Complete 3 end as compared to Refseq mRNA and ENSEMBL gene</a:t>
            </a:r>
            <a:endParaRPr b="0" lang="en-US" sz="1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1066680"/>
          <a:ext cx="9144000" cy="556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How valid are these 3’ and 5’ extensions ?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25600" y="1476360"/>
          <a:ext cx="5838840" cy="360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25600" y="1476360"/>
                    <a:ext cx="583884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Accurate and comprehensive catalog of genes and gene product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Robust annotation system for annotation  of all sequenced genomes</a:t>
            </a: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4480" y="-305640"/>
            <a:ext cx="89391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Using Start and Stop Codon Context  to Refine Annotation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0" y="1523880"/>
          <a:ext cx="4419720" cy="4191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419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57200" y="1523880"/>
          <a:ext cx="4114800" cy="4191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523880"/>
                    <a:ext cx="41148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981080" y="4419720"/>
            <a:ext cx="1524240" cy="75960"/>
          </a:xfrm>
          <a:prstGeom prst="leftRightArrow">
            <a:avLst>
              <a:gd name="adj1" fmla="val 50000"/>
              <a:gd name="adj2" fmla="val 39946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4495680"/>
            <a:ext cx="1676160" cy="76320"/>
          </a:xfrm>
          <a:prstGeom prst="leftRightArrow">
            <a:avLst>
              <a:gd name="adj1" fmla="val 50000"/>
              <a:gd name="adj2" fmla="val 4372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629400" y="2095560"/>
            <a:ext cx="1828800" cy="1143000"/>
          </a:xfrm>
          <a:prstGeom prst="wedgeRectCallout">
            <a:avLst>
              <a:gd name="adj1" fmla="val -33851"/>
              <a:gd name="adj2" fmla="val 150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op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CI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7440" y="2109960"/>
            <a:ext cx="1828800" cy="1066680"/>
          </a:xfrm>
          <a:prstGeom prst="wedgeRectCallout">
            <a:avLst>
              <a:gd name="adj1" fmla="val -33851"/>
              <a:gd name="adj2" fmla="val 157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seudo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Real Start co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MD candi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quence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n-coding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Issues with Novel and putative transcripts 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8920" y="1376280"/>
            <a:ext cx="377172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嘀攀爀搀愀渀愀"/>
            </a:endParaRPr>
          </a:p>
        </p:txBody>
      </p:sp>
      <p:sp>
        <p:nvSpPr>
          <p:cNvPr id="251" name=""/>
          <p:cNvSpPr/>
          <p:nvPr/>
        </p:nvSpPr>
        <p:spPr>
          <a:xfrm>
            <a:off x="303120" y="1139760"/>
            <a:ext cx="4329360" cy="571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depth EST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transcrip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o of var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oding 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cross-species con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ly A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CpG 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5280" y="1173240"/>
            <a:ext cx="4025880" cy="5684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urious transcri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ly par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ora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ly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ge specifi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639720"/>
            <a:ext cx="26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Conc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9596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a0000"/>
                </a:solidFill>
                <a:uFillTx/>
                <a:latin typeface="Times New Roman"/>
              </a:rPr>
              <a:t>Probable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Putative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Novel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 Known Transcript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373480" y="1905120"/>
          <a:ext cx="518940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73480" y="1905120"/>
                    <a:ext cx="5189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981760" y="2082960"/>
            <a:ext cx="1359000" cy="14223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095560"/>
            <a:ext cx="2921040" cy="16635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4160" y="3949560"/>
            <a:ext cx="5397480" cy="25416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16520" y="1689120"/>
            <a:ext cx="16765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t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33560" y="1690560"/>
            <a:ext cx="167652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3120" y="3849840"/>
            <a:ext cx="1676520" cy="380880"/>
          </a:xfrm>
          <a:prstGeom prst="rect">
            <a:avLst/>
          </a:prstGeom>
          <a:solidFill>
            <a:srgbClr val="245a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nnotating Non-coding mRNAs is still a challenge !!!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63520" y="2822400"/>
          <a:ext cx="8690040" cy="304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3520" y="2822400"/>
                    <a:ext cx="8690040" cy="30434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1171440" y="4367160"/>
            <a:ext cx="312840" cy="649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1400" y="2811600"/>
            <a:ext cx="264960" cy="1643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65720" y="2703600"/>
            <a:ext cx="333360" cy="1751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7960" y="2673360"/>
            <a:ext cx="284040" cy="1760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04960" y="1200240"/>
            <a:ext cx="304812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no RNAs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375920" y="2143080"/>
            <a:ext cx="1366920" cy="216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876920" y="2114640"/>
            <a:ext cx="9360" cy="75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163600"/>
            <a:ext cx="766800" cy="59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3720" y="2152800"/>
            <a:ext cx="109188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hallenges Ahead….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6160" y="1104840"/>
            <a:ext cx="818676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Establishing Common Standard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Validating Novel Transcript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Single Exon Expressed Sequences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Determination of Accurate ORF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Functionally Relevant Alternative Splice Form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Finding Sparsely Expressed Gene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Annotation of New Types of Non-coding Functional mRNA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Incremental Update of Annotation 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嘀攀爀搀愀渀愀"/>
              </a:rPr>
              <a:t>Capturing Biological Exceptions</a:t>
            </a: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嘀攀爀搀愀渀愀"/>
              </a:rPr>
              <a:t>Acknowledgements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279" name=""/>
          <p:cNvSpPr/>
          <p:nvPr/>
        </p:nvSpPr>
        <p:spPr>
          <a:xfrm>
            <a:off x="507960" y="1644480"/>
            <a:ext cx="3738600" cy="38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inhard Eng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unguang W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h Pur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 Elk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uhong W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ge Smirn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rah Cal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vid Dicap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94400" y="985680"/>
            <a:ext cx="3725640" cy="40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lie Whitta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 Borowsk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ead O’le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mes Gal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ill Mesir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ic L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cing, Finishing and Closure Te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76400" y="1238400"/>
            <a:ext cx="3281400" cy="412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0200" y="1265400"/>
            <a:ext cx="3106800" cy="186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53160" y="3281400"/>
            <a:ext cx="310644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45600" y="14716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notation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嘀攀爀搀愀渀愀"/>
              </a:rPr>
              <a:t>Comparison of alternative splice forms between ENSEMBL and  Broad annotation</a:t>
            </a:r>
            <a:endParaRPr b="0" lang="en-US" sz="12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380880" y="914400"/>
          <a:ext cx="80773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914400"/>
                    <a:ext cx="8077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 flipV="1">
            <a:off x="838080" y="31240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4343400"/>
            <a:ext cx="304560" cy="2133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518148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Br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3581280"/>
            <a:ext cx="990720" cy="457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990720"/>
            <a:ext cx="838080" cy="8380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438280"/>
            <a:ext cx="11430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nt-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57160" y="185760"/>
            <a:ext cx="74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nually Annotated Gene Models vs. public Gen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380880" y="1752480"/>
          <a:ext cx="8534520" cy="510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752480"/>
                    <a:ext cx="85345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4343400" y="4648320"/>
            <a:ext cx="129528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EM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3400" y="4343400"/>
            <a:ext cx="12952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W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4038480"/>
            <a:ext cx="12952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2895480"/>
            <a:ext cx="1447920" cy="9144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 Hu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267080" y="1981080"/>
            <a:ext cx="144792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5181480"/>
            <a:ext cx="1295280" cy="1676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" y="1219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19320" y="1143000"/>
            <a:ext cx="1218960" cy="2286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A sig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1000" y="162000"/>
            <a:ext cx="62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Novel Transcript Variants of Known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81800"/>
            <a:ext cx="8610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嘀攀爀搀愀渀愀"/>
              </a:rPr>
              <a:t>Annotation Strategy: Evidence-based Annotation</a:t>
            </a:r>
            <a:endParaRPr b="0" lang="en-US" sz="24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嘀攀爀搀愀渀愀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990720"/>
          <a:ext cx="8229600" cy="40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90720"/>
                    <a:ext cx="822960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57200" y="5105520"/>
            <a:ext cx="358128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MD1 ge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Size: 2065,608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 Length: 11,297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Length: 3565 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 Exons: 68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length of Exons : 166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105520"/>
            <a:ext cx="304812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gensh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scan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t_EST 1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N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0240" y="60120"/>
            <a:ext cx="6953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Rule-based Annotation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0" name=""/>
          <p:cNvSpPr/>
          <p:nvPr/>
        </p:nvSpPr>
        <p:spPr>
          <a:xfrm>
            <a:off x="600120" y="728640"/>
            <a:ext cx="7986600" cy="5829480"/>
          </a:xfrm>
          <a:prstGeom prst="flowChartMerg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-m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es-specific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-species 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hom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res + GenePred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2880" y="1671480"/>
            <a:ext cx="42840" cy="188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040" y="36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cc"/>
                </a:solidFill>
                <a:latin typeface="Times New Roman"/>
              </a:rPr>
              <a:t>Decreasing order of confidenc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0120" y="5272200"/>
            <a:ext cx="14400" cy="10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Annotation System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3324240"/>
            <a:ext cx="1305000" cy="1181160"/>
          </a:xfrm>
          <a:prstGeom prst="flowChartMagneticDisk">
            <a:avLst/>
          </a:prstGeom>
          <a:gradFill rotWithShape="0">
            <a:gsLst>
              <a:gs pos="0">
                <a:srgbClr val="07006a"/>
              </a:gs>
              <a:gs pos="50000">
                <a:srgbClr val="1100e8"/>
              </a:gs>
              <a:gs pos="100000">
                <a:srgbClr val="07006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3314880"/>
            <a:ext cx="1295280" cy="361800"/>
          </a:xfrm>
          <a:prstGeom prst="ellipse">
            <a:avLst/>
          </a:prstGeom>
          <a:solidFill>
            <a:srgbClr val="ffffc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56080" y="3665520"/>
            <a:ext cx="2878560" cy="1735560"/>
            <a:chOff x="1756080" y="3665520"/>
            <a:chExt cx="2878560" cy="1735560"/>
          </a:xfrm>
        </p:grpSpPr>
        <p:grpSp>
          <p:nvGrpSpPr>
            <p:cNvPr id="108" name=""/>
            <p:cNvGrpSpPr/>
            <p:nvPr/>
          </p:nvGrpSpPr>
          <p:grpSpPr>
            <a:xfrm>
              <a:off x="2245320" y="3665520"/>
              <a:ext cx="2389320" cy="1708560"/>
              <a:chOff x="2245320" y="3665520"/>
              <a:chExt cx="2389320" cy="1708560"/>
            </a:xfrm>
          </p:grpSpPr>
          <p:sp>
            <p:nvSpPr>
              <p:cNvPr id="109" name=""/>
              <p:cNvSpPr/>
              <p:nvPr/>
            </p:nvSpPr>
            <p:spPr>
              <a:xfrm rot="16200000">
                <a:off x="3242160" y="398160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 rot="16200000">
                <a:off x="2528280" y="3381840"/>
                <a:ext cx="1109160" cy="167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852" y="440"/>
                    </a:moveTo>
                    <a:arcTo wR="10800" hR="10800" stAng="-4414994" swAng="44149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852" y="440"/>
                    </a:moveTo>
                    <a:arcTo wR="10800" hR="10800" stAng="-4414994" swAng="4414994"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56080" y="4697280"/>
              <a:ext cx="1480680" cy="703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ate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eneCal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200560" y="2744640"/>
            <a:ext cx="2347920" cy="665280"/>
            <a:chOff x="5200560" y="2744640"/>
            <a:chExt cx="2347920" cy="665280"/>
          </a:xfrm>
        </p:grpSpPr>
        <p:sp>
          <p:nvSpPr>
            <p:cNvPr id="113" name=""/>
            <p:cNvSpPr/>
            <p:nvPr/>
          </p:nvSpPr>
          <p:spPr>
            <a:xfrm flipV="1">
              <a:off x="5200560" y="2990880"/>
              <a:ext cx="676440" cy="41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80240" y="2744640"/>
              <a:ext cx="1668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b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740040" y="3754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9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43720" y="1039680"/>
            <a:ext cx="3100680" cy="2246400"/>
            <a:chOff x="2943720" y="1039680"/>
            <a:chExt cx="3100680" cy="2246400"/>
          </a:xfrm>
        </p:grpSpPr>
        <p:sp>
          <p:nvSpPr>
            <p:cNvPr id="117" name=""/>
            <p:cNvSpPr/>
            <p:nvPr/>
          </p:nvSpPr>
          <p:spPr>
            <a:xfrm>
              <a:off x="4457880" y="2619360"/>
              <a:ext cx="0" cy="66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97360" y="2144880"/>
              <a:ext cx="1128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43720" y="1039680"/>
              <a:ext cx="1349640" cy="459720"/>
            </a:xfrm>
            <a:prstGeom prst="rect">
              <a:avLst/>
            </a:prstGeom>
            <a:noFill/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eno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12320" y="1049400"/>
              <a:ext cx="1432080" cy="4597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id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8200" y="1514520"/>
              <a:ext cx="209520" cy="628560"/>
            </a:xfrm>
            <a:prstGeom prst="downArrow">
              <a:avLst>
                <a:gd name="adj1" fmla="val 57574"/>
                <a:gd name="adj2" fmla="val 75000"/>
              </a:avLst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0160" y="1523880"/>
              <a:ext cx="209520" cy="628920"/>
            </a:xfrm>
            <a:prstGeom prst="downArrow">
              <a:avLst>
                <a:gd name="adj1" fmla="val 57574"/>
                <a:gd name="adj2" fmla="val 75043"/>
              </a:avLst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544760" y="5451480"/>
            <a:ext cx="18954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cript H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46760" y="5210280"/>
            <a:ext cx="2678040" cy="61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l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89400" y="5337000"/>
            <a:ext cx="2431800" cy="171720"/>
          </a:xfrm>
          <a:prstGeom prst="leftRightArrow">
            <a:avLst>
              <a:gd name="adj1" fmla="val 50000"/>
              <a:gd name="adj2" fmla="val 2819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5680" y="4730760"/>
            <a:ext cx="2965680" cy="444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 Genom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94200">
            <a:off x="4680360" y="4167720"/>
            <a:ext cx="111132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 rot="20194200">
            <a:off x="4972320" y="334080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8880" y="2657520"/>
            <a:ext cx="1533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 rot="20194200">
            <a:off x="3148200" y="21009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0194200">
            <a:off x="2885040" y="2907360"/>
            <a:ext cx="1110600" cy="155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852" y="440"/>
                </a:moveTo>
                <a:arcTo wR="10800" hR="10800" stAng="-4414994" swAng="4414994"/>
                <a:lnTo>
                  <a:pt x="10800" y="10800"/>
                </a:lnTo>
                <a:close/>
              </a:path>
              <a:path fill="none" w="21600" h="21600">
                <a:moveTo>
                  <a:pt x="13852" y="440"/>
                </a:moveTo>
                <a:arcTo wR="10800" hR="10800" stAng="-4414994" swAng="4414994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75240" y="3772080"/>
            <a:ext cx="800280" cy="35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200" y="3860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284440" y="3958920"/>
            <a:ext cx="90180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21360" y="420372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嘀攀爀搀愀渀愀"/>
              </a:rPr>
              <a:t>Critical Steps in our Annotation Process</a:t>
            </a:r>
            <a:r>
              <a:rPr b="0" lang="en-US" sz="3200" spc="-1" strike="noStrike">
                <a:solidFill>
                  <a:srgbClr val="000000"/>
                </a:solidFill>
                <a:latin typeface="嘀攀爀搀愀渀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8760" y="888840"/>
            <a:ext cx="850428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Running Comput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Selection and Filtering Evidence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Intelligent Automated Gene Calle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Genome Browser and Editor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Rule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Trained Manual Annotator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嘀攀爀搀愀渀愀"/>
              </a:rPr>
              <a:t>Annotation QA Process</a:t>
            </a: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嘀攀爀搀愀渀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Computes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914400"/>
            <a:ext cx="289584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ed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1600200"/>
            <a:ext cx="457200" cy="73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200" y="1486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549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logy 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0" y="19432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000" y="1943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29080" y="2908440"/>
            <a:ext cx="1180800" cy="189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4876920"/>
            <a:ext cx="1981440" cy="160020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2840" y="2909880"/>
            <a:ext cx="38480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a0000"/>
                </a:solidFill>
                <a:latin typeface="Arial"/>
              </a:rPr>
              <a:t>Filtering of High Quality Ev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Identity &gt;95% and &gt;50% QS 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Splice J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ank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a0000"/>
                </a:solidFill>
                <a:latin typeface="Arial"/>
              </a:rPr>
              <a:t>Repeat filt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6760" y="57913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588360" y="5562720"/>
            <a:ext cx="163620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600" y="2438280"/>
            <a:ext cx="2209680" cy="459720"/>
          </a:xfrm>
          <a:prstGeom prst="rect">
            <a:avLst/>
          </a:prstGeom>
          <a:solidFill>
            <a:srgbClr val="ff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43200" y="1828800"/>
            <a:ext cx="571500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120"/>
            <a:ext cx="8610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嘀攀爀搀愀渀愀"/>
              </a:rPr>
              <a:t>TranscriptHunter</a:t>
            </a:r>
            <a:endParaRPr b="0" lang="en-US" sz="3200" spc="-1" strike="noStrike">
              <a:solidFill>
                <a:srgbClr val="ffffff"/>
              </a:solidFill>
              <a:latin typeface="嘀攀爀搀愀渀愀"/>
            </a:endParaRPr>
          </a:p>
        </p:txBody>
      </p:sp>
      <p:sp>
        <p:nvSpPr>
          <p:cNvPr id="154" name=""/>
          <p:cNvSpPr/>
          <p:nvPr/>
        </p:nvSpPr>
        <p:spPr>
          <a:xfrm>
            <a:off x="223920" y="766800"/>
            <a:ext cx="1600200" cy="129204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1000" y="120960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1981080"/>
            <a:ext cx="297180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Exon-based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Gene L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040" y="3276720"/>
            <a:ext cx="2713680" cy="76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Intron Edge Clus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Vari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2819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45640" y="1509840"/>
            <a:ext cx="18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ranscriptHu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3160" y="4546440"/>
            <a:ext cx="3010680" cy="149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0000"/>
                </a:solidFill>
                <a:latin typeface="Arial"/>
              </a:rPr>
              <a:t>Creation of Gen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F and UT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cript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ation 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00080" y="1800360"/>
            <a:ext cx="81468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108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Screening of spliced ESTs contained withi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嘀攀爀搀愀渀愀"/>
              </a:rPr>
              <a:t>repeat elements</a:t>
            </a:r>
            <a:endParaRPr b="0" lang="en-US" sz="1800" spc="-1" strike="noStrike">
              <a:solidFill>
                <a:srgbClr val="ffffff"/>
              </a:solidFill>
              <a:latin typeface="嘀攀爀搀愀渀愀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14400" y="2133720"/>
          <a:ext cx="710892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133720"/>
                    <a:ext cx="7108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 flipV="1">
            <a:off x="6629400" y="205704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38880" y="160020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Yb8 Repe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200400"/>
            <a:ext cx="152640" cy="2895480"/>
          </a:xfrm>
          <a:custGeom>
            <a:avLst/>
            <a:gdLst>
              <a:gd name="textAreaLeft" fmla="*/ 0 w 152640"/>
              <a:gd name="textAreaRight" fmla="*/ 55080 w 15264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426708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ced 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5:47:53Z</dcterms:created>
  <dc:creator>Mark Borowsky</dc:creator>
  <dc:description/>
  <dc:language>en-US</dc:language>
  <cp:lastModifiedBy>CDKodira</cp:lastModifiedBy>
  <cp:lastPrinted>2003-06-25T21:29:52Z</cp:lastPrinted>
  <dcterms:modified xsi:type="dcterms:W3CDTF">2004-04-26T19:32:02Z</dcterms:modified>
  <cp:revision>303</cp:revision>
  <dc:subject/>
  <dc:title>No Slide Title</dc:title>
</cp:coreProperties>
</file>